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18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9.jpeg" ContentType="image/jpeg"/>
  <Override PartName="/ppt/media/image2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D3AC3-3FF8-4AAC-A915-7CC0B87A8A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se notes identify the specific TEK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ddressed on each slid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substitute for, the full text of the TEK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 To view in Slide Show mode, one must select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D) analyze the political, economic, and social impact of major wars, including World War I and World War II, on the history of Texa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A) differentiate between, locate, and use primary and secondary sources such as computer software, databases, media and news services, biographies, interviews, and artifacts to acquire information about Texa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C)  organize and interpret information from outlines, reports, databases, and visuals including graphs, charts, timelines, and map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D) analyze the political, economic, and social impact of major wars, including World War I and World War II, on the history of Texa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A) differentiate between, locate, and use primary and secondary sources such as computer software, databases, media and news services, biographies, interviews, and artifacts to acquire information about Texa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C)  organize and interpret information from outlines, reports, databases, and visuals including graphs, charts, timelines, and map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 to the extensive propaganda, back home everyone changed virtually every aspect of their life to benefit the war effor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few things included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Changing their diets for food intake reduction and vitamin enhanc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Building ships, planes, ammunition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Sewing unifo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Loaning government mon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Women having to take over many of the jobs usually fulfilled by m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D) analyze the political, economic, and social impact of major wars, including World War I and World War II, on the history of Texa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A) differentiate between, locate, and use primary and secondary sources such as computer software, databases, media and news services, biographies, interviews, and artifacts to acquire information about Texa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B) analyze information by sequencing, categorizing, identifying cause-and-effect relationships, comparing, contrasting, finding the main idea, summarizing, making generalizations and predictions, and drawing inferences and conclus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C)  organize and interpret information from outlines, reports, databases, and visuals including graphs, charts, timelines, and map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D) analyze the political, economic, and social impact of major wars, including World War I and World War II, on the history of Texa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A) differentiate between, locate, and use primary and secondary sources such as computer software, databases, media and news services, biographies, interviews, and artifacts to acquire information about Texa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B) analyze information by sequencing, categorizing, identifying cause-and-effect relationships, comparing, contrasting, finding the main idea, summarizing, making generalizations and predictions, and drawing inferences and conclus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C)  organize and interpret information from outlines, reports, databases, and visuals including graphs, charts, timelines, and map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D) analyze the political, economic, and social impact of major wars, including World War I and World War II, on the history of Texa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A) differentiate between, locate, and use primary and secondary sources such as computer software, databases, media and news services, biographies, interviews, and artifacts to acquire information about Texa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B) analyze information by sequencing, categorizing, identifying cause-and-effect relationships, comparing, contrasting, finding the main idea, summarizing, making generalizations and predictions, and drawing inferences and conclus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3 (B) use a decision-making process to identify a situation that requires a decision, gather information, identify options, predict consequences, and take action to implement a decis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benefits to loaning the government money includes getting more money back and helping the war effort at the same tim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D) analyze the political, economic, and social impact of major wars, including World War I and World War II, on the history of Texa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(C) express and defend a point of view on an issue of historical or contemporary interest in Texa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A) differentiate between, locate, and use primary and secondary sources such as computer software, databases, media and news services, biographies, interviews, and artifacts to acquire information about Texa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B) analyze information by sequencing, categorizing, identifying cause-and-effect relationships, comparing, contrasting, finding the main idea, summarizing, making generalizations and predictions, and drawing inferences and conclus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D) analyze the political, economic, and social impact of major wars, including World War I and World War II, on the history of Texa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6 (B) identify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civic responsibiliti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of Texas citize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(C) express and defend a point of view on an issue of historical or contemporary interest in Texa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A) differentiate between, locate, and use primary and secondary sources such as computer software, databases, media and news services, biographies, interviews, and artifacts to acquire information about Texa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B) analyze information by sequencing, categorizing, identifying cause-and-effect relationships, comparing, contrasting, finding the main idea, summarizing, making generalizations and predictions, and drawing inferences and conclus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D) analyze the political, economic, and social impact of major wars, including World War I and World War II, on the history of Texa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6 (B) identify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civic responsibiliti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of Texas citize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(C) express and defend a point of view on an issue of historical or contemporary interest in Texa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A) differentiate between, locate, and use primary and secondary sources such as computer software, databases, media and news services, biographies, interviews, and artifacts to acquire information about Texa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B) analyze information by sequencing, categorizing, identifying cause-and-effect relationships, comparing, contrasting, finding the main idea, summarizing, making generalizations and predictions, and drawing inferences and conclus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probably helped the movement for women suffrage and clearly assisted in the war effor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D) analyze the political, economic, and social impact of major wars, including World War I and World War II, on the history of Texa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6 (B) identify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civic responsibiliti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of Texas citize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(C) express and defend a point of view on an issue of historical or contemporary interest in Texa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A) differentiate between, locate, and use primary and secondary sources such as computer software, databases, media and news services, biographies, interviews, and artifacts to acquire information about Texa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orld War I probably helped women towards being able to vote because they really helped the government out and proved themselves as responsible, independent, equal being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D) analyze the political, economic, and social impact of major wars, including World War I and World War II, on the history of Texa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B) analyze information by sequencing, categorizing, identifying cause-and-effect relationships, comparing, contrasting, finding the main idea, summarizing, making generalizations and predictions, and drawing inferences and conclus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3 (A) use a problem-solving process to identify a problem, gather information, list and consider options, consider advantages and disadvantages, choose and implement a solution, and evaluate the effectiveness of the solu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D) analyze the political, economic, and social impact of major wars, including World War I and World War II, on the history of Texa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B) analyze information by sequencing, categorizing, identifying cause-and-effect relationships, comparing, contrasting, finding the main idea, summarizing, making generalizations and predictions, and drawing inferences and conclus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3 (A) use a problem-solving process to identify a problem, gather information, list and consider options, consider advantages and disadvantages, choose and implement a solution, and evaluate the effectiveness of the solu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5D022-72C2-49AD-9F05-1443AE7822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ssible ways the war affected the lives of Texans includes (but is not limited to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scarcity in food when everyone return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pacts on the predominant oil industry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ny crops that had been left unattended now needed major hel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 (B) apply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absolute and relative chronolog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through the sequencing of significant individuals, events, and time period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C) organize and interpret information from outlines, reports, databases, and visuals including graphs, charts, timelines, and map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D) analyze the political, economic, and social impact of major wars, including World War I and World War II, on the history of Texa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(C) express and defend a point of view on an issue of historical or contemporary interest in Texa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A) differentiate between, locate, and use primary and secondary sources such as computer software, databases, media and news services, biographies, interviews, and artifacts to acquire information about Texa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telegram is a page full of numbers because it is written in cod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D) analyze the political, economic, and social impact of major wars, including World War I and World War II, on the history of Texa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(C) express and defend a point of view on an issue of historical or contemporary interest in Texa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A) differentiate between, locate, and use primary and secondary sources such as computer software, databases, media and news services, biographies, interviews, and artifacts to acquire information about Texa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3 (A) use a problem-solving process to identify a problem, gather information, list and consider options, consider advantages and disadvantages, choose and implement a solution, and evaluated the effectiveness of the solu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ies most notably included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ussian Empi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rit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ta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ted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entral countries (who the allies were fighting) included most namely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rman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stria-Hung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ttoman Empi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lgar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D) analyze the political, economic, and social impact of major wars, including World War I and World War II, on the history of Texa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A) differentiate between, locate, and use primary and secondary sources such as computer software, databases, media and news services, biographies, interviews, and artifacts to acquire information about Texa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D) identify points of view from the historical context surrounding an event and the frame of reference that influenced the participan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D) analyze the political, economic, and social impact of major wars, including World War I and World War II, on the history of Texa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A) differentiate between, locate, and use primary and secondary sources such as computer software, databases, media and news services, biographies, interviews, and artifacts to acquire information about Texa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D) identify points of view from the historical context surrounding an event and the frame of reference that influenced the participan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C921-D3DE-468B-9DA5-AD40F35E4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99FB-3136-4805-B5A0-536CD45EE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8E22-7EFF-462E-BD5B-A0729404C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B308-2F80-4CB7-BD50-50BD4B8FA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75BB-9030-4088-96CC-4135E5388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A4C4-6A90-45AA-940F-0FCB02ACF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A7B2-6316-46AF-8C79-C275BF1F6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E99D-F9E3-4E63-8E03-C539DD7A9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9E6E-1521-4C5C-9E8C-E32139F93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6FC9-EF9E-417F-AC6C-AFF930798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ABF5-2423-434F-A394-466AE1931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6CED-A87A-4713-BB88-74B705E23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53049-F74B-4A08-985E-6DD5D0B0E5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image" Target="../media/image21.jpeg"/><Relationship Id="rId6" Type="http://schemas.openxmlformats.org/officeDocument/2006/relationships/image" Target="../media/image22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23.png"/><Relationship Id="rId9" Type="http://schemas.openxmlformats.org/officeDocument/2006/relationships/hyperlink" Target="http://peer.tamu.edu/forms/Curricula_Survey.shtml" TargetMode="External"/><Relationship Id="rId10" Type="http://schemas.openxmlformats.org/officeDocument/2006/relationships/hyperlink" Target="http://peer.tamu.edu/forms/Curricula_Survey.shtml" TargetMode="External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09480" y="3494160"/>
            <a:ext cx="792504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003399"/>
                </a:solidFill>
                <a:uFillTx/>
                <a:latin typeface="Times New Roman"/>
                <a:hlinkClick r:id="rId2"/>
              </a:rPr>
              <a:t>http://peer.tamu.edu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98520" y="1442880"/>
            <a:ext cx="838188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ining Cam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91680" y="1295280"/>
            <a:ext cx="8294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camps were se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 to train soldiers all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 the United St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icture to the righ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ws soldiers arriving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Camp Travis in Sa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tonio, Tex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f these camp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re tent cities or small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oden buildings tha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me very crowd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rowded conditions increased the spread of diseases within the cam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267080" y="1523880"/>
            <a:ext cx="4419720" cy="3484800"/>
          </a:xfrm>
          <a:prstGeom prst="rect">
            <a:avLst/>
          </a:prstGeom>
          <a:ln w="88920">
            <a:solidFill>
              <a:srgbClr val="537372"/>
            </a:solidFill>
            <a:miter/>
          </a:ln>
        </p:spPr>
      </p:pic>
      <p:sp>
        <p:nvSpPr>
          <p:cNvPr id="87" name=""/>
          <p:cNvSpPr/>
          <p:nvPr/>
        </p:nvSpPr>
        <p:spPr>
          <a:xfrm>
            <a:off x="4259160" y="5154480"/>
            <a:ext cx="441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Source: http://www.archives.gov/research_room/arc/index.html (Picture 53373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MM-8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nch Warf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5840" y="1203120"/>
            <a:ext cx="806616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soldiers made it to Europe, they often fough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very harsh condi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diers in World War I saw advances in ammunition that made the battlefields dangerous and unpredictabl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diers took shelter and fought from trenches dug into the ground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nches flooded and often                                                      filled with mud.  The tight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unsanitary condition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encouraged the spread o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disease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351320" y="3429000"/>
            <a:ext cx="4419720" cy="2971800"/>
          </a:xfrm>
          <a:prstGeom prst="rect">
            <a:avLst/>
          </a:prstGeom>
          <a:ln w="88920">
            <a:solidFill>
              <a:srgbClr val="537372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4635360" y="6500880"/>
            <a:ext cx="3581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icture from http://www.greycounty.on.ca/museum/ww1mud.htm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MM-8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War Effort at Ho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32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ose who could not fight in the war joined the war effort at ho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 you think people at home in Texas helped with the war in Europ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181480" y="1447920"/>
            <a:ext cx="3102120" cy="4572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724280" y="6523200"/>
            <a:ext cx="441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Source: http://www.archives.gov/research_room/arc/index.html (Picture 51256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MM-8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erving F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6520" y="1420560"/>
            <a:ext cx="4835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United States supplied food to the Allied soldiers oversea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ople were encouraged to substitute other foods for wheat, oils and mea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Texans helped out by volunteering to eat no meat or wheat on certain days of the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ers reminded civilians of the need to conserve fo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you were trying to conserve food for the war, what type of food would you miss the most?  Wh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619600" y="1600200"/>
            <a:ext cx="2949840" cy="4572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724280" y="6512040"/>
            <a:ext cx="441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Source: http://www.archives.gov/research_room/arc/index.html (Picture 512499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MM-8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ctory Garde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21920" y="1676520"/>
            <a:ext cx="44607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ople in the city and in the country started to grow their own vegetable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growing their own vegetables, more food was available for the Allied troo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you had a Victory Garden, what types of vegetables would you gr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315040" y="1676520"/>
            <a:ext cx="3132000" cy="4572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724280" y="6483240"/>
            <a:ext cx="441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Source: http://www.archives.gov/research_room/arc/index.html (Picture 512498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MM-8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ney and the W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5600" y="1309680"/>
            <a:ext cx="8548920" cy="50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r is expensive and the governmen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ed more money to keep up th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h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ans bought Liberty Bonds to help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 the w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someone bought a Liberty Bond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were loaning money to the U.S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ment at a certain interest rat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he loan was paid back, th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 received the amount they pai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the bond plus money they earn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interest on the bo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would people want to loan the government money?  What was the benef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735520" y="1319040"/>
            <a:ext cx="3071880" cy="42465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724280" y="6512040"/>
            <a:ext cx="441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Source: http://www.archives.gov/research_room/arc/index.html (Picture 512618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MM-8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010040" y="1641600"/>
            <a:ext cx="4551480" cy="44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5960" indent="-3459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as, as a great agricultural state, was needed to produce cotton during the w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ers advertised for men to quit their desk jobs and join others in harvesting cotton for the war effort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66840" y="1585800"/>
            <a:ext cx="3062160" cy="44499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31840" y="6108840"/>
            <a:ext cx="3441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Source: http://www.archives.gov/research_room/arc/index.html (Picture 51250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MM-8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k on the Home Fro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88960" y="1652760"/>
            <a:ext cx="4311720" cy="44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5960" indent="-3459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ers also built military equipment and produced oil for ships and pla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one was encouraged to do their best at War 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195880" y="1440000"/>
            <a:ext cx="3459240" cy="48276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303880" y="6294600"/>
            <a:ext cx="3622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Source: http://www.archives.gov/research_room/arc/index.html (Picture 51248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MM-89.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k on the Home Fro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men during WW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343040" y="1447560"/>
            <a:ext cx="4530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n were not the only people that worked during the war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fore the war, most women stayed at home.  In fact, some jobs were reserved for men on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men gone to war, women had the opportunity to fill positions that had never before been open to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were the benefits of women being able to work for the first time during the war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5800" y="1371600"/>
            <a:ext cx="3386160" cy="46483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52280" y="6499080"/>
            <a:ext cx="487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Source: http://www.archives.gov/research_room/arc/index.html (Picture 512614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183440" y="649440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MM-9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men Vo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024440" y="1418760"/>
            <a:ext cx="4682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women went to work, they were able to prove that they were responsible and could make decis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1918, women won the right to vote in primary ele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1920, the 1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mendment to the U. S. Constitution gave women the right to vote in all ele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mpact do you think World War I had on women being able to vo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838080" y="1523880"/>
            <a:ext cx="2913120" cy="42674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914400" y="5791320"/>
            <a:ext cx="304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is is a picture of the 19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Amendme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MM-9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73200" y="447840"/>
            <a:ext cx="782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cial Studies 4 -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1733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gnize how WWI affected the lives of Texa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ribe the events leading to the U.S. involvement in WW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yze current and historical propaganda pos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y the important social issues in Texas during WW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thing to Think Ab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1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would your life be different if you lived in Texas during World War I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was life different for men and women during World War I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mpact did World War I have on life in Texas today?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MM-9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80880" y="19098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380880" y="34336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380880" y="4957920"/>
            <a:ext cx="1359000" cy="13716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04920" y="99072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48520" y="2209680"/>
            <a:ext cx="2601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artment of Agricultural Education, Texas A&amp;M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enter for Environmental and Rural Heal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ge of Veterinary Medicine, Texas A&amp;M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4724280" y="345132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6"/>
          <a:stretch/>
        </p:blipFill>
        <p:spPr>
          <a:xfrm>
            <a:off x="4724280" y="49705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4643280" y="1928880"/>
            <a:ext cx="1546560" cy="1371600"/>
            <a:chOff x="4643280" y="1928880"/>
            <a:chExt cx="1546560" cy="1371600"/>
          </a:xfrm>
        </p:grpSpPr>
        <p:sp>
          <p:nvSpPr>
            <p:cNvPr id="146" name=""/>
            <p:cNvSpPr/>
            <p:nvPr/>
          </p:nvSpPr>
          <p:spPr>
            <a:xfrm>
              <a:off x="4724280" y="1928880"/>
              <a:ext cx="137160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643280" y="2117880"/>
            <a:ext cx="1546560" cy="1012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643280" y="2117880"/>
                      <a:ext cx="1546560" cy="101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49" name=""/>
          <p:cNvSpPr/>
          <p:nvPr/>
        </p:nvSpPr>
        <p:spPr>
          <a:xfrm>
            <a:off x="1916280" y="2139840"/>
            <a:ext cx="267480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onal Institute of Environmental Health Sci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ge of Education, Texas A&amp;M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003399"/>
                </a:solidFill>
                <a:uFillTx/>
                <a:latin typeface="Times New Roman"/>
                <a:hlinkClick r:id="rId9"/>
              </a:rPr>
              <a:t>http://</a:t>
            </a:r>
            <a:r>
              <a:rPr b="0" lang="en-US" sz="2000" spc="-1" strike="noStrike" u="sng">
                <a:solidFill>
                  <a:srgbClr val="003399"/>
                </a:solidFill>
                <a:uFillTx/>
                <a:latin typeface="Times New Roman"/>
                <a:hlinkClick r:id="rId10"/>
              </a:rPr>
              <a:t>peer.tamu.edu/forms/Curricula_Survey.shtm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73200" y="447840"/>
            <a:ext cx="782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xas and World War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85680" y="1790640"/>
            <a:ext cx="73314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rch Madn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ory, Arlis had just returned home from World War I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 you think the war might have affected the lives of Texans?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MM-1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98400" y="2921040"/>
            <a:ext cx="7893000" cy="3624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2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line of Ev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81040" y="1015920"/>
            <a:ext cx="8562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low is a timeline of events leading up to and during World War I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event preceded the United States joining in World War I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958680" y="3595680"/>
            <a:ext cx="7221600" cy="29196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MM-7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.S. Feels the Effects of the W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43560" y="1758960"/>
            <a:ext cx="3394080" cy="45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war broke out in 1914, the U.S. remained neutral.  We did not want to get involved in the war “over ther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1915, a German submarine sank the British ship, Lusitania, killing 128 Americans on board.  This outraged the U.S., but we still did not enter the w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33520" y="1905120"/>
            <a:ext cx="4647960" cy="4114800"/>
          </a:xfrm>
          <a:prstGeom prst="rect">
            <a:avLst/>
          </a:prstGeom>
          <a:ln w="88920">
            <a:solidFill>
              <a:srgbClr val="537372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MM-7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.S. Moves Toward W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73600" y="1508040"/>
            <a:ext cx="4989240" cy="37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January 1917, a secret telegram sent by the German government to the German Ambassador to Mexico was intercepted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 telegram, the German government asked the Mexican government for help in attacking the U.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MM-8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82680" y="1346040"/>
            <a:ext cx="3246480" cy="51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.S. Moves Toward W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73600" y="1508040"/>
            <a:ext cx="4987800" cy="46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return, the German government promised Mexico that they would help them recover Texas, New Mexico, and Arizo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ecret telegram convinced President Woodrow Wilson to ask Congress to join the war on the side of the All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do you think the telegram is a page full of number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MM-80.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82680" y="1346040"/>
            <a:ext cx="3246480" cy="51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.S. Declares W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95640" y="1523880"/>
            <a:ext cx="4716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, on April 6, 1917, the U.S. declared war on Germany, joining the Allies in World War 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py of the Declaration of War is on the lef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countries were members of the Alli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countries were the Allies fight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471600" y="1295280"/>
            <a:ext cx="3338280" cy="5181840"/>
            <a:chOff x="471600" y="1295280"/>
            <a:chExt cx="3338280" cy="5181840"/>
          </a:xfrm>
        </p:grpSpPr>
        <p:pic>
          <p:nvPicPr>
            <p:cNvPr id="75" name="" descr=""/>
            <p:cNvPicPr/>
            <p:nvPr/>
          </p:nvPicPr>
          <p:blipFill>
            <a:blip r:embed="rId2"/>
            <a:stretch/>
          </p:blipFill>
          <p:spPr>
            <a:xfrm>
              <a:off x="471600" y="1295280"/>
              <a:ext cx="3338280" cy="518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 txBox="1"/>
            <p:nvPr/>
          </p:nvSpPr>
          <p:spPr>
            <a:xfrm>
              <a:off x="471600" y="1295280"/>
              <a:ext cx="3338280" cy="518184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76320" y="6550200"/>
            <a:ext cx="487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Source: http://www.archives.gov/research_room/arc/index.html (Picture 29996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182000" y="649116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MM-8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xans Go to W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0" y="1328760"/>
            <a:ext cx="4191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ost Texans felt great American pride and wanted to serve their country in any way they could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bout 200,000 Texas men registered for the war draft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omen could not register for the draft, but nearly 500 Texas women registered as nurses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en it was over, 5,170 Texans had lost their lives in World War I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3614760" cy="54100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52280" y="6553080"/>
            <a:ext cx="487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Source: http://www.archives.gov/research_room/arc/index.html (Picture 512478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216920" y="65008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MM-8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2T14:14:57Z</dcterms:created>
  <dc:creator>itstudent</dc:creator>
  <dc:description/>
  <dc:language>en-US</dc:language>
  <cp:lastModifiedBy>ljlab</cp:lastModifiedBy>
  <cp:lastPrinted>2005-12-02T18:47:37Z</cp:lastPrinted>
  <dcterms:modified xsi:type="dcterms:W3CDTF">2008-12-10T20:15:37Z</dcterms:modified>
  <cp:revision>53</cp:revision>
  <dc:subject/>
  <dc:title>Texas and World War I</dc:title>
</cp:coreProperties>
</file>